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716-088D-4073-B131-27DCF0A1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91F-0400-494B-B9E5-654CA432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2D3-60C8-42FC-8C77-B8000408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CCB-4859-4A8E-AE1B-0BA6D03C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FED-9700-473C-BB8D-A1A1448B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36E4-F870-4985-A67C-6421757C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639-FAB5-49CB-BA00-0003EC26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8BD7-D09C-4CD2-98D3-8AB8AB80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895C-5873-4AA8-98CF-6706F407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977-A668-4B30-BFF9-540A2E29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6F41-AA29-408F-BF09-EE0C1DE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767-A35A-4511-A161-6D512A60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B81D-1829-4B29-AE81-0114FEC6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0D1B-1790-4B17-BC16-71BD9646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B42-D773-41BE-8067-468D1A7E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24E9-10E2-4AD4-B48E-ED82C080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C5F1-A39B-4162-ABB8-34F7A7F9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39E-A2A9-4270-B63A-D174265B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01F-C55A-4486-8A6B-3C6A89A7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279-5260-492A-B7F2-B5BC9DA9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7B8-51C8-418A-A498-1ABAE4E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6B7-0AEB-4B1B-9FB8-64C525D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F69-D861-465F-A4B6-F35BBBCA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462-01AF-48EF-8F69-80CA5A5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A6A3-C71A-428C-9B7A-882226F407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4E1F-C9EA-45CC-B861-1681A01565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hat traditions did they have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y Frank and Matth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ome Maori Trad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he traditional dance is the Hak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18280" y="3284640"/>
            <a:ext cx="2925720" cy="3959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665440"/>
            <a:ext cx="46450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raditional Hon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 traditional hongi is a press of the nose it is polite and respectfu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3444840"/>
            <a:ext cx="4176720" cy="286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A triditional Maori h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his is a maori traditional hu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7690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is is the kapa-Haka group pic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066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 Tim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is cool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Hope you enjoyed our powerpoi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327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2:51:15Z</dcterms:created>
  <dc:creator>5d15</dc:creator>
  <dc:description/>
  <dc:language>en-US</dc:language>
  <cp:lastModifiedBy>5d05</cp:lastModifiedBy>
  <dcterms:modified xsi:type="dcterms:W3CDTF">2013-06-19T02:55:56Z</dcterms:modified>
  <cp:revision>8</cp:revision>
  <dc:subject/>
  <dc:title>What traditions did they have?</dc:title>
</cp:coreProperties>
</file>